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2BB-FE71-4996-A520-9CED4EF5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6AD-C54D-4C2B-AEBA-05AC4033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913-92D4-437F-8C72-65158ED1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6EE-075E-4C1C-AB4B-A8DB795C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CA0-1F8C-4267-9FAA-95A247DD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B0D-319F-449F-996D-4BF1FFDC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751-773D-4C2C-BA24-190B2FF8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AFA-3982-4DC3-A425-5524A26C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498-0F7F-4911-A852-B7211EED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864-34EB-4B25-9E0F-2F8E13FE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326-5CAC-4822-B838-98A3944E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A92-0699-4BF3-B233-B4D5A05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507E-C4AE-440F-9F18-7F7EB6966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are in my classroom and in a “breakout” ro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t’s a separate “study” 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check out some of the featu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lick on the “next page” button on the bottom left of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creen – it’s the “right”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90720" y="4876920"/>
            <a:ext cx="7617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eakout room is a little differ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 depends on how each onMATH teacher set up their “classro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.each breakout ro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whiteboar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ilar to a smartbo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chat po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 you to communicate with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MATH teac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 attendee li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 that you can see who else is in this “room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of us may have added some web links, files to share, etc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to the next page to see a sample “breakout ro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hat a breakout room might look like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520" y="1095480"/>
            <a:ext cx="7391160" cy="4543200"/>
            <a:chOff x="533520" y="1095480"/>
            <a:chExt cx="7391160" cy="45432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533520" y="1095480"/>
              <a:ext cx="7391160" cy="45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533520" y="1095480"/>
              <a:ext cx="7391160" cy="45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5421240"/>
            <a:ext cx="7391160" cy="29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160" y="601992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2209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 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724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828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572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ay, let’s hit a few butt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 in the right corner, you will find the i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whiteboard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icon and the toolbar will app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pencil tool to write something all over th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colour; change the thickness of the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when you click on the eras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few numbers on the page then click the backwards arrow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ould be a better tool to use when you make an error and you want to erase just one or two things (instead of erasing EVERYTH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409680" cy="37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440" y="571500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 the some of the other tools…such as the marker tool, line tool, shapes, text, stamper….can you change the size or col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you have a question?  Find the icon to “raise your hand” in this virtual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440" y="571500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are familiar with the tools, you are ready to start using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ooking forward to seeing you again at  onM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43:43Z</dcterms:created>
  <dc:creator>officeuser</dc:creator>
  <dc:description/>
  <dc:language>en-US</dc:language>
  <cp:lastModifiedBy>officeuser</cp:lastModifiedBy>
  <dcterms:modified xsi:type="dcterms:W3CDTF">2010-02-04T15:25:01Z</dcterms:modified>
  <cp:revision>7</cp:revision>
  <dc:subject/>
  <dc:title>Intro</dc:title>
</cp:coreProperties>
</file>